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928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796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5605560" y="-360"/>
            <a:ext cx="42876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2320" y="50436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17240" y="3201840"/>
            <a:ext cx="725796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6405480"/>
            <a:ext cx="42879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5605560" y="6405480"/>
            <a:ext cx="42876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36BD41-3246-4BA1-B458-38EC419712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bove methodology found its way of application on a twin shaft gas turbine (ABB GT10), installed at Rhodes island, and owned by Public Power Corporation (PPC) of Gree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hronicle of the application may be summarised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a first phase, the problem was to identify the cause of the observed EGT incr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problem was identified, corrective action was taken and it was necessary to verify the effectiveness of the interventions done on the eng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lysis performed in each case is described in the follow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llected from the initial operation of the engine as well as those from efficiency testing were analysed for performing a diagnosis. The analysis of the data was made at two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irst, a "common sense" thermodynamic analysis was performed, by executing mainly heat balance calc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calculations can provide non-measured quantities from the values of measured ones, and give a comparative picture of parameters characterising engine cond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of ISO 2314 correction and calculation procedures were applied for this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d and calculated values of various thermodynamic quantities are reduced to operation with standard day ambient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econd, a more elaborate procedure, namely the adaptive performance modelling mentioned above, has been appli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ed the inspection confirmed the initial diagnosis for the condition of the turbines. Deposits were found in both gas generator and power turbine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were due to anticorrosive additives of the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s 5 to 8 illustrate the condition of the blades. Figures 5 and 6 show the first rotor and stator of the compressor turbine, respective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have the form of a uniform coat, which has partially cracked on the rotor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of the deposit layer has been removed in the picture of the vanes, Fig. 6, to indicate the make more apparent the presence of the lay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stator vanes of the power turbine are also covered by a more or less uniform coat of deposits, Figure 7, deposits on the rotor blades give a rougher surface, Figure 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photos are taken using an ordinary camera, the layer of deposits is well discri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rrective action wa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alternative approaches wer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rst one consisted in cleaning the blades while the later to perform geometry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anufacturer considers deposition as an unavoidable process, when oil is used as a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l oil treatment with additives is essential in order to increase ash melting point and thus minimise the risk of blade corrosion (Olsson et al 196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also alleges that this process is taking place during a small period during the beginning of the operation of the engine, when this layer is formed and thereafter no considerable changes are taking pl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fore, performance recovery was suggested to be based on component re-matching, resulting from the modification of the stagger angle of power turbine stator v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possibility was foreseen on this engine, in order to remedy situations as the presen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7B002-C98B-4BA6-8D50-0BDCAFCE1C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99ADC-8B31-4FFB-A92A-80AE3B49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A2F48-ACA9-41CF-B9E3-82C8C474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67952-3141-472F-8C3B-832C9D0E75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AA3A-0D21-46A8-AFD2-4032541B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B3BFF-B23B-4AE9-87D8-649712D3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80C3F-1949-43B0-BD21-23F96B7B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8EF18-51F8-4CB4-B251-AF0239F1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96B01-BF5A-476C-B17A-89AEB6D0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49631-50FA-4327-BFE5-BA3D6B90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BE7BA-A8AB-40C5-9CCB-88089624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E061F-717B-4D73-9397-D7F72EFC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B1D2-F628-4D3A-B7A6-AE27FC7D55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83808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7960" y="622944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641600"/>
            <a:ext cx="44197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imes New Roman"/>
              </a:rPr>
              <a:t>Gas Turbine (ABB GT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84480" y="2157480"/>
            <a:ext cx="52466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F1B7A-4FEC-4D06-A520-4F509A26ABC3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84600" y="863640"/>
          <a:ext cx="28702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863640"/>
                    <a:ext cx="28702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39720" y="863640"/>
          <a:ext cx="304164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9720" y="863640"/>
                    <a:ext cx="3041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0B6E5-C017-4071-9786-AA237E9219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33CE1-C0B9-491F-82B4-AB65B20339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28C35-DE86-4094-B81C-248E965CF4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1680" y="2133720"/>
            <a:ext cx="4246560" cy="34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89000" y="110160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Gas Generator Turbine 1</a:t>
            </a:r>
            <a:r>
              <a:rPr b="1" lang="en-GB" sz="2400" spc="-1" strike="noStrike" u="sng" baseline="30000">
                <a:solidFill>
                  <a:srgbClr val="1717ff"/>
                </a:solidFill>
                <a:uFillTx/>
                <a:latin typeface="Times New Roman"/>
              </a:rPr>
              <a:t>st</a:t>
            </a: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 rotor b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4680" y="2131920"/>
            <a:ext cx="4219560" cy="34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28A4A-F930-4D29-BD98-0A02835C5DD7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53" t="1812" r="0" b="2761"/>
          <a:stretch/>
        </p:blipFill>
        <p:spPr>
          <a:xfrm>
            <a:off x="312840" y="2168640"/>
            <a:ext cx="4006800" cy="30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1360440"/>
            <a:ext cx="30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Power Turbine 2nd Stator vanes detail</a:t>
            </a: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311640"/>
            <a:ext cx="3695760" cy="234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1120" y="573408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Power Turbine 2nd Stator vanes. Leading edge pressure side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15BA-3138-4132-9916-AD4000C7328D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32000" y="1089000"/>
            <a:ext cx="4678560" cy="46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B67A1-5F53-4BF6-93F2-5FC34DF5F5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000" y="833400"/>
            <a:ext cx="8820000" cy="51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031FC-ADFC-4525-A2AE-1AD24AD956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1BF71-9226-41FF-9D20-F95AE509B0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98830-6675-4BAD-9C0E-C2B79DCF76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0280" y="998640"/>
          <a:ext cx="75438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7BE3F-5A25-428C-AB62-5C71AB3034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828800" y="3298680"/>
          <a:ext cx="5486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98680"/>
                    <a:ext cx="5486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28800" y="830160"/>
          <a:ext cx="5486400" cy="278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0160"/>
                    <a:ext cx="548640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A7147-89BA-4A5A-A5CC-2BF114235B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5:13:03Z</dcterms:created>
  <dc:creator>cristof</dc:creator>
  <dc:description/>
  <dc:language>en-US</dc:language>
  <cp:lastModifiedBy>diem039</cp:lastModifiedBy>
  <dcterms:modified xsi:type="dcterms:W3CDTF">2004-10-15T06:28:15Z</dcterms:modified>
  <cp:revision>425</cp:revision>
  <dc:subject/>
  <dc:title>PowerPoint Presentation</dc:title>
</cp:coreProperties>
</file>